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5.png" ContentType="image/png"/>
  <Override PartName="/ppt/media/image5.wmf" ContentType="image/x-wmf"/>
  <Override PartName="/ppt/media/image6.wmf" ContentType="image/x-wmf"/>
  <Override PartName="/ppt/media/image12.gif" ContentType="image/gif"/>
  <Override PartName="/ppt/media/image15.png" ContentType="image/png"/>
  <Override PartName="/ppt/media/image3.jpeg" ContentType="image/jpeg"/>
  <Override PartName="/ppt/media/image30.png" ContentType="image/png"/>
  <Override PartName="/ppt/media/image7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media/image10.png" ContentType="image/png"/>
  <Override PartName="/ppt/media/image1.jpeg" ContentType="image/jpeg"/>
  <Override PartName="/ppt/media/image14.gif" ContentType="image/gif"/>
  <Override PartName="/ppt/media/image17.png" ContentType="image/png"/>
  <Override PartName="/ppt/media/image16.png" ContentType="image/png"/>
  <Override PartName="/ppt/media/image19.gif" ContentType="image/gif"/>
  <Override PartName="/ppt/media/image18.wmf" ContentType="image/x-wmf"/>
  <Override PartName="/ppt/media/image2.jpeg" ContentType="image/jpeg"/>
  <Override PartName="/ppt/media/image20.png" ContentType="image/png"/>
  <Override PartName="/ppt/media/image28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6.gif" ContentType="image/gif"/>
  <Override PartName="/ppt/media/image21.jpeg" ContentType="image/jpeg"/>
  <Override PartName="/ppt/media/image2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<Relationship Id="rId22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06-12-28T02:12:08.388000000" idx="1">
    <p:pos x="-1041" y="-356"/>
    <p:text/>
  </p:cm>
  <p:cm authorId="0" dt="2006-12-28T02:12:25.914000000" idx="2">
    <p:pos x="-950" y="-392"/>
    <p:text/>
  </p:cm>
  <p:cm authorId="0" dt="2006-12-28T02:12:27.506000000" idx="3">
    <p:pos x="-870" y="-33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56B-F03F-4A63-97A6-B6CB29BB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0CEE-FB0A-4903-A78A-78BBC379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E83-6A95-4CCC-8227-34048DE1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F75-C111-493B-BC05-4749B91A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33C-92F2-4289-9C97-34838B7E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060-7683-4160-AC97-2FAE6728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239-B7C2-43EE-96A2-8771C9A6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9A9-E723-4A68-A190-A74B8BF6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A83-606F-47A3-B72A-F1E53770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6B3-E069-44EB-859E-FF6F905E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180-8894-4FAF-9D78-598AB5E0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4B4-081E-45E6-AEBD-A8C5F186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02CD-738D-4818-954A-D66F8E374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" Target="slide12.xml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gi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slide" Target="slide12.xml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1403280" y="2637000"/>
            <a:ext cx="6408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чева Анжелика Алексеевн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16"/>
          <p:cNvSpPr txBox="1"/>
          <p:nvPr/>
        </p:nvSpPr>
        <p:spPr>
          <a:xfrm>
            <a:off x="900000" y="5013360"/>
            <a:ext cx="360072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тудентка 4-го курса КГП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7380360" y="26028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2010 год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95280" y="189000"/>
            <a:ext cx="1459080" cy="1944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580000" y="4365720"/>
            <a:ext cx="266400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"/>
          <p:cNvSpPr/>
          <p:nvPr/>
        </p:nvSpPr>
        <p:spPr>
          <a:xfrm>
            <a:off x="1314000" y="2612160"/>
            <a:ext cx="68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1319760" y="3534480"/>
            <a:ext cx="4366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684000" y="37944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Вопрос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II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тур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95280" y="105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Назовите фамилию ученого, который впервые ввел терм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«квадратное уравнение»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0" y="2637000"/>
          <a:ext cx="2879640" cy="51732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1" name="Picture 74" descr="вольф"/>
          <p:cNvPicPr/>
          <p:nvPr/>
        </p:nvPicPr>
        <p:blipFill>
          <a:blip r:embed="rId1"/>
          <a:stretch/>
        </p:blipFill>
        <p:spPr>
          <a:xfrm>
            <a:off x="295200" y="2565360"/>
            <a:ext cx="2882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252360" y="-4412160"/>
            <a:ext cx="182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Вольф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Христи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аро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l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ащ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lf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-  знаменитый  немецкий философ, родился в 1679 г. в Бреславле, в  семье простого  ремеслен-ника, изучал в Йене сначала богословие, потом математику и  филосо-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чания  его к сочинению Чирнгаузен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chirnhaus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a ment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 обратили  на себя внимание Лейбница. Вскоре (1703) появился первый самостоятельный  труд Вольфа, доставивший ему право читать лекции по математике и  философии в лейпцигском университ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лед затем Вольф напечатал несколько сочинений по разным отде-лам математики,  прославивших  его  далеко  за  пределами Германии.  Вторжение  Кар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 Саксонию  (1706)  вынудило  Вольфа оставить Лейпциг;  в 1707 г. он был  приглашен, по рекомендации  Лейбница, на кафедру математики и естествознания в Гал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связи с  восшествием  на престол  Фридрих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чень  ценившего Вольфа, он был назначен вице-канцлером университета в Галле и про-фессором естественного и международного пра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743 году Вольф назначен канцлером университета, а в 1745году возведен в имперское баронское достоинство. Умер в 1754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971640" y="98100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При каких значениях 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а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уравнен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х</a:t>
            </a:r>
            <a:r>
              <a:rPr b="0" lang="en-US" sz="20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– 3х + 2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– 3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не имеет действительных корней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609840" y="404640"/>
            <a:ext cx="202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Вопрос класс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11280" y="24210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Решение:</a:t>
            </a: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411280" y="2637000"/>
            <a:ext cx="46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ем дискриминант,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 =  в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4а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268360" y="2997360"/>
            <a:ext cx="47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 = 9 – 4(2а – 3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268360" y="3357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 = 9 – 8а + 12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2195640" y="3716280"/>
            <a:ext cx="35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 = 21 – 8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1332000" y="400536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вадратное уравнение не имеет действительных корней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том случае, когда дискриминант отрицательный, т.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410200" y="462744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1 – 8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0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2050920" y="4941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8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21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253512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2411280" y="5300640"/>
            <a:ext cx="16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1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2484360" y="5661000"/>
            <a:ext cx="12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1547640" y="602136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21/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0" descr="Graphic5"/>
          <p:cNvPicPr/>
          <p:nvPr/>
        </p:nvPicPr>
        <p:blipFill>
          <a:blip r:embed="rId1"/>
          <a:stretch/>
        </p:blipFill>
        <p:spPr>
          <a:xfrm>
            <a:off x="7164360" y="189000"/>
            <a:ext cx="1800360" cy="1593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3" descr="simb"/>
          <p:cNvPicPr/>
          <p:nvPr/>
        </p:nvPicPr>
        <p:blipFill>
          <a:blip r:embed="rId2"/>
          <a:stretch/>
        </p:blipFill>
        <p:spPr>
          <a:xfrm rot="19849800">
            <a:off x="468000" y="5229000"/>
            <a:ext cx="101268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468360" y="40464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Вопрос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III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тура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395280" y="100008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24000" y="1052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ешения неприведенного квадратного уравнения общего ви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най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искримина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684360" y="20811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Назовите фамилию английского математика, который ввел тер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мин «дискриминант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9280" y="3357720"/>
          <a:ext cx="6096240" cy="718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icture 34" descr="сильвестр"/>
          <p:cNvPicPr/>
          <p:nvPr/>
        </p:nvPicPr>
        <p:blipFill>
          <a:blip r:embed="rId1"/>
          <a:stretch/>
        </p:blipFill>
        <p:spPr>
          <a:xfrm>
            <a:off x="6588000" y="3357720"/>
            <a:ext cx="23702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2421000"/>
            <a:ext cx="5905440" cy="4437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6"/>
          <p:cNvSpPr/>
          <p:nvPr/>
        </p:nvSpPr>
        <p:spPr>
          <a:xfrm>
            <a:off x="2195640" y="968040"/>
            <a:ext cx="66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Изобразить множество решений системы неравенств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3" descr="animomo_book2"/>
          <p:cNvPicPr/>
          <p:nvPr/>
        </p:nvPicPr>
        <p:blipFill>
          <a:blip r:embed="rId2"/>
          <a:stretch/>
        </p:blipFill>
        <p:spPr>
          <a:xfrm>
            <a:off x="7308720" y="3789360"/>
            <a:ext cx="1440000" cy="27478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6"/>
          <p:cNvSpPr/>
          <p:nvPr/>
        </p:nvSpPr>
        <p:spPr>
          <a:xfrm>
            <a:off x="755640" y="33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опрос класс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7"/>
          <p:cNvSpPr/>
          <p:nvPr/>
        </p:nvSpPr>
        <p:spPr>
          <a:xfrm>
            <a:off x="4211640" y="155736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4356000" y="1557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Y = IxI – 1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Y = - x</a:t>
            </a:r>
            <a:r>
              <a:rPr b="1" lang="en-U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+ 2IxI + 1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684360" y="33336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Вопрос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ту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0" y="981000"/>
            <a:ext cx="88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13 – 16 веках даются отдельные методы решения различн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д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вадратных уравнений. Слияние этих методов произвел в 1544 год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мецкий математик. Это настоящее событие в математик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539640" y="242100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Назовите фамилию этого ученого.</a:t>
            </a: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3357720"/>
          <a:ext cx="4824360" cy="647640"/>
        </p:xfrm>
        <a:graphic>
          <a:graphicData uri="http://schemas.openxmlformats.org/drawingml/2006/table">
            <a:tbl>
              <a:tblPr/>
              <a:tblGrid>
                <a:gridCol w="647640"/>
                <a:gridCol w="720720"/>
                <a:gridCol w="719280"/>
                <a:gridCol w="720720"/>
                <a:gridCol w="719280"/>
                <a:gridCol w="649080"/>
                <a:gridCol w="6476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6" name="Picture 42" descr="Штифель"/>
          <p:cNvPicPr/>
          <p:nvPr/>
        </p:nvPicPr>
        <p:blipFill>
          <a:blip r:embed="rId1"/>
          <a:stretch/>
        </p:blipFill>
        <p:spPr>
          <a:xfrm>
            <a:off x="6372360" y="3429000"/>
            <a:ext cx="2587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GCH_2_39_05"/>
          <p:cNvPicPr/>
          <p:nvPr/>
        </p:nvPicPr>
        <p:blipFill>
          <a:blip r:embed="rId1"/>
          <a:stretch/>
        </p:blipFill>
        <p:spPr>
          <a:xfrm>
            <a:off x="755640" y="2852640"/>
            <a:ext cx="2303640" cy="2224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f_036i"/>
          <p:cNvPicPr/>
          <p:nvPr/>
        </p:nvPicPr>
        <p:blipFill>
          <a:blip r:embed="rId2"/>
          <a:stretch/>
        </p:blipFill>
        <p:spPr>
          <a:xfrm>
            <a:off x="4932360" y="2276640"/>
            <a:ext cx="2664000" cy="280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8"/>
          <p:cNvSpPr/>
          <p:nvPr/>
        </p:nvSpPr>
        <p:spPr>
          <a:xfrm>
            <a:off x="3135240" y="31003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3924360" y="1517040"/>
            <a:ext cx="24480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,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3203640" y="3971880"/>
            <a:ext cx="1322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12"/>
          <p:cNvSpPr txBox="1"/>
          <p:nvPr/>
        </p:nvSpPr>
        <p:spPr>
          <a:xfrm>
            <a:off x="395280" y="260280"/>
            <a:ext cx="5616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>
                    <a:alpha val="90000"/>
                  </a:srgbClr>
                </a:solidFill>
                <a:latin typeface="Arial"/>
              </a:rPr>
              <a:t>Ребу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>
                  <a:alpha val="9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7885080" y="465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250920" y="620640"/>
            <a:ext cx="4284720" cy="57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ариан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колько корней имеет уравне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2|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|=0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Ордината вершины графика функ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9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Не решая уравнения 3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5х+1=0, найти значение выражения 6(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-3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Корень уравнения 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4=16х равен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Сумма координат точки пересечения графиков функций у=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у=х+2, у=-0,5х+5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Найти значение выражения 8/3(√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2), где 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корни уравнения 4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9х+2=0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Решить уравнение 10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9х+4=0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Дискриминант уравнения 3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4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5=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Найти корень уравнения 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13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36=0, принадлежащий отрезку [1; 2,5]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Наибольший корень уравнения 2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17х+21=0 равен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твет: 1,3,9,2,5,6,4,8,10,7,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 flipV="1">
            <a:off x="4572000" y="692280"/>
            <a:ext cx="1440" cy="59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643280" y="620640"/>
            <a:ext cx="4284720" cy="60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ариан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Абсцисса вершины графика функ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1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17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Не решая уравнения 8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3х+16=0, найти значение выражения 16(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+1/2х1х2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Найти корень уравнения 2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9х-56=0, принадлежащий отрезку [6; 9]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Наибольший корень уравнения 3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11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4=0 равен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Дискриминант уравнения 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2-4х+3=0 равен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Корень уравнения 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81=18х равен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Сколько корней имеет уравне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5х|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|+6х=0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Сумма координат точки пересечения графиков функций у=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2х+2 , у=4-х, у=4х-6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Решить уравнение 11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8х+3=0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Найти значение выражения 9/35|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|+7,5 √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корни уравнения 9х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37х+4=0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твет: 1,3,8,4,2,7,5,10,6,9,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3348000" y="1890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Arial"/>
              </a:rPr>
              <a:t>Тест - цепочк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1"/>
          <p:cNvSpPr/>
          <p:nvPr/>
        </p:nvSpPr>
        <p:spPr>
          <a:xfrm>
            <a:off x="571680" y="4979880"/>
            <a:ext cx="299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1835280" y="3102120"/>
            <a:ext cx="62560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3"/>
          <p:cNvSpPr/>
          <p:nvPr/>
        </p:nvSpPr>
        <p:spPr>
          <a:xfrm>
            <a:off x="0" y="482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4"/>
          <p:cNvSpPr/>
          <p:nvPr/>
        </p:nvSpPr>
        <p:spPr>
          <a:xfrm>
            <a:off x="1187280" y="4552200"/>
            <a:ext cx="432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611280" y="333360"/>
            <a:ext cx="36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Супер - иг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464000" y="692280"/>
            <a:ext cx="46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безьянок резвых ст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сласть поевши, развлекалас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х в квадрате часть восьм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 поляне забавлялас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двенадцать по лианам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тали прыгать, повисая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колько ж было обезьянок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ы скажи мне, в этой стае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539640" y="3573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Назовите фамилию знаменитого  индийского математика 12 века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который составил и решил эту задачу. Решение его свидельству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ет о том, что он знал о двузначности  корней квадратного уравне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124000" y="4941720"/>
          <a:ext cx="5184720" cy="574920"/>
        </p:xfrm>
        <a:graphic>
          <a:graphicData uri="http://schemas.openxmlformats.org/drawingml/2006/table">
            <a:tbl>
              <a:tblPr/>
              <a:tblGrid>
                <a:gridCol w="690480"/>
                <a:gridCol w="677880"/>
                <a:gridCol w="648000"/>
                <a:gridCol w="647640"/>
                <a:gridCol w="647640"/>
                <a:gridCol w="649080"/>
                <a:gridCol w="648000"/>
                <a:gridCol w="57600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6" name="Picture 82" descr=""/>
          <p:cNvPicPr/>
          <p:nvPr/>
        </p:nvPicPr>
        <p:blipFill>
          <a:blip r:embed="rId1"/>
          <a:stretch/>
        </p:blipFill>
        <p:spPr>
          <a:xfrm rot="20503200">
            <a:off x="1547640" y="1052280"/>
            <a:ext cx="159876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140360" y="260280"/>
            <a:ext cx="475128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«Предмет математики настолько серьёзен, что нужно не упускать случая делать его немного занимательным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Блез Паска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39640" y="2276640"/>
            <a:ext cx="79218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Творческая активность, находчивость, изобретательность и смекалка достигают высшего напряжения и получают отличную тренировку, когда мысль охвачена стремлением решить заинтересовавшую задачу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Найденное решение или даже чтение изложенного остроумного решения всегда вызывает умственное удовлетворение, эстетическое наслажд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J0239975"/>
          <p:cNvPicPr/>
          <p:nvPr/>
        </p:nvPicPr>
        <p:blipFill>
          <a:blip r:embed="rId1"/>
          <a:stretch/>
        </p:blipFill>
        <p:spPr>
          <a:xfrm rot="20369400">
            <a:off x="1042920" y="549360"/>
            <a:ext cx="1424160" cy="1076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ED00172_"/>
          <p:cNvPicPr/>
          <p:nvPr/>
        </p:nvPicPr>
        <p:blipFill>
          <a:blip r:embed="rId2"/>
          <a:stretch/>
        </p:blipFill>
        <p:spPr>
          <a:xfrm>
            <a:off x="6227640" y="5084640"/>
            <a:ext cx="1440000" cy="1020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AG00135_"/>
          <p:cNvPicPr/>
          <p:nvPr/>
        </p:nvPicPr>
        <p:blipFill>
          <a:blip r:embed="rId3"/>
          <a:stretch/>
        </p:blipFill>
        <p:spPr>
          <a:xfrm>
            <a:off x="1547640" y="5445000"/>
            <a:ext cx="2448000" cy="88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assic Wedding Back Arrow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36000" y="6093000"/>
            <a:ext cx="714240" cy="47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Classic Wedding Back Arrow"/>
          <p:cNvPicPr/>
          <p:nvPr/>
        </p:nvPicPr>
        <p:blipFill>
          <a:blip r:embed="rId6"/>
          <a:stretch/>
        </p:blipFill>
        <p:spPr>
          <a:xfrm>
            <a:off x="8028000" y="6093000"/>
            <a:ext cx="714240" cy="47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5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2738520" cy="2589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 rot="21083400">
            <a:off x="0" y="55897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547640" y="1484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 rot="514200">
            <a:off x="6300360" y="5877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 rot="1110000">
            <a:off x="178560" y="37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 rot="20379600">
            <a:off x="179280" y="404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 rot="742800">
            <a:off x="323640" y="21337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 rot="20421600">
            <a:off x="360" y="443664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 rot="20538600">
            <a:off x="360" y="2781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7524720" y="609588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 rot="20404200">
            <a:off x="5364000" y="587700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 rot="20792400">
            <a:off x="2700720" y="5876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 rot="706200">
            <a:off x="394920" y="105264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2c00"/>
                </a:solidFill>
                <a:latin typeface="Arial"/>
              </a:rPr>
              <a:t>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690000">
            <a:off x="323640" y="3141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2c00"/>
                </a:solidFill>
                <a:latin typeface="Arial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 rot="765600">
            <a:off x="0" y="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 rot="20389200">
            <a:off x="360" y="14839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 rot="883800">
            <a:off x="394920" y="5013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 rot="1050000">
            <a:off x="1402920" y="60955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 rot="690000">
            <a:off x="323640" y="6092640"/>
            <a:ext cx="93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62c00"/>
                </a:solidFill>
                <a:latin typeface="Arial"/>
              </a:rPr>
              <a:t>*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4140360" y="587700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/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9"/>
          <p:cNvSpPr/>
          <p:nvPr/>
        </p:nvSpPr>
        <p:spPr>
          <a:xfrm flipH="1" rot="516600">
            <a:off x="8244000" y="5877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0"/>
          <p:cNvSpPr/>
          <p:nvPr/>
        </p:nvSpPr>
        <p:spPr>
          <a:xfrm flipH="1" rot="20490000">
            <a:off x="8423280" y="4076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1"/>
          <p:cNvSpPr/>
          <p:nvPr/>
        </p:nvSpPr>
        <p:spPr>
          <a:xfrm flipH="1" rot="1220400">
            <a:off x="8421840" y="6919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2"/>
          <p:cNvSpPr/>
          <p:nvPr/>
        </p:nvSpPr>
        <p:spPr>
          <a:xfrm flipH="1" rot="20857200">
            <a:off x="8496000" y="2421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3"/>
          <p:cNvSpPr/>
          <p:nvPr/>
        </p:nvSpPr>
        <p:spPr>
          <a:xfrm flipH="1" rot="1178400">
            <a:off x="8243640" y="47239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4"/>
          <p:cNvSpPr/>
          <p:nvPr/>
        </p:nvSpPr>
        <p:spPr>
          <a:xfrm flipH="1" rot="1061400">
            <a:off x="8242920" y="3068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5"/>
          <p:cNvSpPr/>
          <p:nvPr/>
        </p:nvSpPr>
        <p:spPr>
          <a:xfrm flipH="1" rot="20893800">
            <a:off x="8677080" y="13399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2c00"/>
                </a:solidFill>
                <a:latin typeface="Arial"/>
              </a:rPr>
              <a:t>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6"/>
          <p:cNvSpPr/>
          <p:nvPr/>
        </p:nvSpPr>
        <p:spPr>
          <a:xfrm flipH="1" rot="20910000">
            <a:off x="8567280" y="3429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2c00"/>
                </a:solidFill>
                <a:latin typeface="Arial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7"/>
          <p:cNvSpPr/>
          <p:nvPr/>
        </p:nvSpPr>
        <p:spPr>
          <a:xfrm flipH="1" rot="20834400">
            <a:off x="80625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8"/>
          <p:cNvSpPr/>
          <p:nvPr/>
        </p:nvSpPr>
        <p:spPr>
          <a:xfrm flipH="1" rot="1210800">
            <a:off x="8242920" y="17712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 flipH="1" rot="20716200">
            <a:off x="8677080" y="5300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0"/>
          <p:cNvSpPr/>
          <p:nvPr/>
        </p:nvSpPr>
        <p:spPr>
          <a:xfrm flipH="1" rot="1556400">
            <a:off x="4642920" y="60958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2c00"/>
                </a:solidFill>
                <a:latin typeface="Arial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1"/>
          <p:cNvSpPr/>
          <p:nvPr/>
        </p:nvSpPr>
        <p:spPr>
          <a:xfrm rot="690000">
            <a:off x="7019640" y="5876640"/>
            <a:ext cx="93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62c00"/>
                </a:solidFill>
                <a:latin typeface="Arial"/>
              </a:rPr>
              <a:t>*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2"/>
          <p:cNvSpPr/>
          <p:nvPr/>
        </p:nvSpPr>
        <p:spPr>
          <a:xfrm rot="21083400">
            <a:off x="2050920" y="609588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3"/>
          <p:cNvSpPr/>
          <p:nvPr/>
        </p:nvSpPr>
        <p:spPr>
          <a:xfrm rot="20421600">
            <a:off x="900360" y="60955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4"/>
          <p:cNvSpPr/>
          <p:nvPr/>
        </p:nvSpPr>
        <p:spPr>
          <a:xfrm rot="20570400">
            <a:off x="5796360" y="60955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5"/>
          <p:cNvSpPr/>
          <p:nvPr/>
        </p:nvSpPr>
        <p:spPr>
          <a:xfrm rot="690000">
            <a:off x="3276360" y="6092640"/>
            <a:ext cx="93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62c00"/>
                </a:solidFill>
                <a:latin typeface="Arial"/>
              </a:rPr>
              <a:t>*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6"/>
          <p:cNvSpPr/>
          <p:nvPr/>
        </p:nvSpPr>
        <p:spPr>
          <a:xfrm rot="514200">
            <a:off x="6156000" y="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7"/>
          <p:cNvSpPr/>
          <p:nvPr/>
        </p:nvSpPr>
        <p:spPr>
          <a:xfrm>
            <a:off x="7380360" y="21924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8"/>
          <p:cNvSpPr/>
          <p:nvPr/>
        </p:nvSpPr>
        <p:spPr>
          <a:xfrm rot="20404200">
            <a:off x="5219640" y="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9"/>
          <p:cNvSpPr/>
          <p:nvPr/>
        </p:nvSpPr>
        <p:spPr>
          <a:xfrm rot="20792400">
            <a:off x="2556360" y="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0"/>
          <p:cNvSpPr/>
          <p:nvPr/>
        </p:nvSpPr>
        <p:spPr>
          <a:xfrm rot="1050000">
            <a:off x="1258560" y="2188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1"/>
          <p:cNvSpPr/>
          <p:nvPr/>
        </p:nvSpPr>
        <p:spPr>
          <a:xfrm>
            <a:off x="3995640" y="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/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2"/>
          <p:cNvSpPr/>
          <p:nvPr/>
        </p:nvSpPr>
        <p:spPr>
          <a:xfrm flipH="1" rot="1556400">
            <a:off x="4497840" y="2192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2c00"/>
                </a:solidFill>
                <a:latin typeface="Arial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3"/>
          <p:cNvSpPr/>
          <p:nvPr/>
        </p:nvSpPr>
        <p:spPr>
          <a:xfrm rot="690000">
            <a:off x="6875280" y="0"/>
            <a:ext cx="93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62c00"/>
                </a:solidFill>
                <a:latin typeface="Arial"/>
              </a:rPr>
              <a:t>*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4"/>
          <p:cNvSpPr/>
          <p:nvPr/>
        </p:nvSpPr>
        <p:spPr>
          <a:xfrm rot="21083400">
            <a:off x="1906560" y="21924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5"/>
          <p:cNvSpPr/>
          <p:nvPr/>
        </p:nvSpPr>
        <p:spPr>
          <a:xfrm rot="20570400">
            <a:off x="5652000" y="2188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47ff"/>
                </a:solidFill>
                <a:latin typeface="Arial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6"/>
          <p:cNvSpPr/>
          <p:nvPr/>
        </p:nvSpPr>
        <p:spPr>
          <a:xfrm rot="690000">
            <a:off x="3131640" y="215640"/>
            <a:ext cx="9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62c00"/>
                </a:solidFill>
                <a:latin typeface="Arial"/>
              </a:rPr>
              <a:t>*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7"/>
          <p:cNvSpPr/>
          <p:nvPr/>
        </p:nvSpPr>
        <p:spPr>
          <a:xfrm rot="742800">
            <a:off x="755280" y="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8"/>
          <p:cNvSpPr/>
          <p:nvPr/>
        </p:nvSpPr>
        <p:spPr>
          <a:xfrm rot="690000">
            <a:off x="8459280" y="0"/>
            <a:ext cx="9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62c00"/>
                </a:solidFill>
                <a:latin typeface="Arial"/>
              </a:rPr>
              <a:t>*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80"/>
          <p:cNvSpPr txBox="1"/>
          <p:nvPr/>
        </p:nvSpPr>
        <p:spPr>
          <a:xfrm>
            <a:off x="1116000" y="1197000"/>
            <a:ext cx="6621480" cy="27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ные уравнения: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81"/>
          <p:cNvSpPr txBox="1"/>
          <p:nvPr/>
        </p:nvSpPr>
        <p:spPr>
          <a:xfrm>
            <a:off x="1042920" y="2276640"/>
            <a:ext cx="6553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2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юди события факт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82"/>
          <p:cNvSpPr/>
          <p:nvPr/>
        </p:nvSpPr>
        <p:spPr>
          <a:xfrm>
            <a:off x="6300720" y="472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8 клас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3"/>
          <p:cNvSpPr/>
          <p:nvPr/>
        </p:nvSpPr>
        <p:spPr>
          <a:xfrm>
            <a:off x="6012000" y="5157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рок - иг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 flipV="1">
            <a:off x="-126720" y="-1598400"/>
            <a:ext cx="954000" cy="10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68920" y="282600"/>
            <a:ext cx="12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ЦЕЛ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4000" y="1197000"/>
            <a:ext cx="275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800c8"/>
                </a:solidFill>
                <a:latin typeface="Arial"/>
              </a:rPr>
              <a:t>Образовательна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800c8"/>
                </a:solidFill>
                <a:latin typeface="Arial"/>
              </a:rPr>
              <a:t>–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49040" y="1550880"/>
            <a:ext cx="643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репить навыки решения квадратных уравнений 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ний, связанных с ними, различными способам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899360" y="2781360"/>
            <a:ext cx="64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ть логическое мышление, способность мыс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ть, решать учебные задачи и работать с дополни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ой литературо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93480" y="242100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800c8"/>
                </a:solidFill>
                <a:latin typeface="Arial"/>
              </a:rPr>
              <a:t>Развивающа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800c8"/>
                </a:solidFill>
                <a:latin typeface="Arial"/>
              </a:rPr>
              <a:t>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321480" y="378936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800c8"/>
                </a:solidFill>
                <a:latin typeface="Arial"/>
              </a:rPr>
              <a:t>Воспитательна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800c8"/>
                </a:solidFill>
                <a:latin typeface="Arial"/>
              </a:rPr>
              <a:t>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2440" y="4221000"/>
            <a:ext cx="645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ивать интерес к предмету, формировать комму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ативные и волевые качества, воспитывать твор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кую личнос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8" descr="Classic Wedding Back Arrow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6000" y="6093000"/>
            <a:ext cx="714240" cy="47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9" descr="Classic Wedding Back Arrow"/>
          <p:cNvPicPr/>
          <p:nvPr/>
        </p:nvPicPr>
        <p:blipFill>
          <a:blip r:embed="rId3"/>
          <a:stretch/>
        </p:blipFill>
        <p:spPr>
          <a:xfrm>
            <a:off x="8028000" y="6093000"/>
            <a:ext cx="714240" cy="47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1" descr="AG00135_"/>
          <p:cNvPicPr/>
          <p:nvPr/>
        </p:nvPicPr>
        <p:blipFill>
          <a:blip r:embed="rId4"/>
          <a:stretch/>
        </p:blipFill>
        <p:spPr>
          <a:xfrm>
            <a:off x="2843280" y="5421240"/>
            <a:ext cx="3600360" cy="117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2" descr="41"/>
          <p:cNvPicPr/>
          <p:nvPr/>
        </p:nvPicPr>
        <p:blipFill>
          <a:blip r:embed="rId5"/>
          <a:stretch/>
        </p:blipFill>
        <p:spPr>
          <a:xfrm>
            <a:off x="324000" y="4221000"/>
            <a:ext cx="143964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7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9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0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741960" y="5133600"/>
            <a:ext cx="4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973080" y="3603600"/>
            <a:ext cx="2514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3708360" y="5137560"/>
            <a:ext cx="374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5384880" y="3948120"/>
            <a:ext cx="4562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468360" y="4287960"/>
            <a:ext cx="799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539640" y="620640"/>
            <a:ext cx="80852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Не в театре телевизионном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А средь школьных стен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Мы проводим без куде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Игру под названием «Поле чудес»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Игра увлекательна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И познавательная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Игра не феерическая,                                                                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А математическая 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6" descr="01"/>
          <p:cNvPicPr/>
          <p:nvPr/>
        </p:nvPicPr>
        <p:blipFill>
          <a:blip r:embed="rId1"/>
          <a:stretch/>
        </p:blipFill>
        <p:spPr>
          <a:xfrm>
            <a:off x="250920" y="3573360"/>
            <a:ext cx="169056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49"/>
          <p:cNvPicPr/>
          <p:nvPr/>
        </p:nvPicPr>
        <p:blipFill>
          <a:blip r:embed="rId2"/>
          <a:stretch/>
        </p:blipFill>
        <p:spPr>
          <a:xfrm>
            <a:off x="7020000" y="260280"/>
            <a:ext cx="19018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2556000" y="333360"/>
            <a:ext cx="5184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вила игр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0" y="1700280"/>
            <a:ext cx="9178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Игра максимально приближена к телевизионному варианту, исключени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представляют математические паузы после каждого тура игры, в кото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рые вовлечен весь коллектив учащихс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На игровом круге есть кроме числовых секторов такие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                 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П –  приз ( полагается сувенир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                 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Б –  банкрот ( все ранее набранные очки сгорают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                 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Ш – шанс ( можно обратиться за помощью к любо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из присутствующих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У  учащихся есть  возможность  получить оценку.  Для этого они долж-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ны принимать активное участие в математических паузах, решая задачи, которые им будут предложены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lassic Wedding Back Arrow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6000" y="6093000"/>
            <a:ext cx="714240" cy="47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lassic Wedding Back Arrow"/>
          <p:cNvPicPr/>
          <p:nvPr/>
        </p:nvPicPr>
        <p:blipFill>
          <a:blip r:embed="rId3"/>
          <a:stretch/>
        </p:blipFill>
        <p:spPr>
          <a:xfrm>
            <a:off x="8028000" y="6093000"/>
            <a:ext cx="714240" cy="47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Рис9"/>
          <p:cNvPicPr/>
          <p:nvPr/>
        </p:nvPicPr>
        <p:blipFill>
          <a:blip r:embed="rId4"/>
          <a:stretch/>
        </p:blipFill>
        <p:spPr>
          <a:xfrm>
            <a:off x="179280" y="18900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image5571"/>
          <p:cNvPicPr/>
          <p:nvPr/>
        </p:nvPicPr>
        <p:blipFill>
          <a:blip r:embed="rId5"/>
          <a:stretch/>
        </p:blipFill>
        <p:spPr>
          <a:xfrm>
            <a:off x="4427640" y="5300640"/>
            <a:ext cx="165708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32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832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179280" y="98100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ниге  Владимира Левшина и Эмилии Александровой  «Путешествие по Карликании и Аль-Джебре» есть такая загадка: как называется зако-рючка, которая похожа на сачок для ловли бабочек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804000" y="1989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62c00"/>
                </a:solidFill>
                <a:latin typeface="Arial"/>
              </a:rPr>
              <a:t>радика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55640" y="24922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Как в древности называли радикал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411280" y="3213000"/>
          <a:ext cx="3456000" cy="57636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576360"/>
                <a:gridCol w="576000"/>
                <a:gridCol w="576360"/>
                <a:gridCol w="574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54"/>
          <p:cNvSpPr/>
          <p:nvPr/>
        </p:nvSpPr>
        <p:spPr>
          <a:xfrm>
            <a:off x="663480" y="281160"/>
            <a:ext cx="29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Вопрос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тур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5" descr=""/>
          <p:cNvPicPr/>
          <p:nvPr/>
        </p:nvPicPr>
        <p:blipFill>
          <a:blip r:embed="rId1"/>
          <a:stretch/>
        </p:blipFill>
        <p:spPr>
          <a:xfrm>
            <a:off x="179280" y="4437000"/>
            <a:ext cx="2305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1989000"/>
            <a:ext cx="4643280" cy="4351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N00790_"/>
          <p:cNvPicPr/>
          <p:nvPr/>
        </p:nvPicPr>
        <p:blipFill>
          <a:blip r:embed="rId2"/>
          <a:stretch/>
        </p:blipFill>
        <p:spPr>
          <a:xfrm>
            <a:off x="987480" y="404640"/>
            <a:ext cx="1930320" cy="201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G00004_"/>
          <p:cNvPicPr/>
          <p:nvPr/>
        </p:nvPicPr>
        <p:blipFill>
          <a:blip r:embed="rId3"/>
          <a:stretch/>
        </p:blipFill>
        <p:spPr>
          <a:xfrm>
            <a:off x="6012000" y="5516640"/>
            <a:ext cx="1150920" cy="1101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Classic Wedding Back Arrow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36000" y="6093000"/>
            <a:ext cx="714240" cy="47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lassic Wedding Back Arrow"/>
          <p:cNvPicPr/>
          <p:nvPr/>
        </p:nvPicPr>
        <p:blipFill>
          <a:blip r:embed="rId6"/>
          <a:stretch/>
        </p:blipFill>
        <p:spPr>
          <a:xfrm>
            <a:off x="8028000" y="6093000"/>
            <a:ext cx="714240" cy="475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4284720" y="260280"/>
            <a:ext cx="47163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горизонтали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Древний город (около 2000 до н. э.), в которого решали задачи, связанные с нахождением площадей земельных участков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Итальянский математик, впервые изложивший в «Книге абака» (1202 г.) формулы решения квадратных уравнений по образцу Ал-Хорезм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вадратное уравнение, в котором один из коэффициентов (с или в) равен нулю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Уравнение вида а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+с=0, а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го, обычно, записывают перед буквенным множеством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Функция заданная равенством у = а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+с, а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к называется уравнение вида а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с=0, где а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ертикали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Индийский учёный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), который изложил общее правило решения квадратных уравнений, приведённых к канонической форме: а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+с, а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Древнегреческий математик, который много сделал в области решения уравнения, умело сводя их к неполны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Значение х, при подстановки которого в уравнение получается верное равенство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Создатель современной буквенной символики, автор знаменитой теоремы, которая выражает зависимость между корнями и коэффициентами уравнения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к называется выраж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Название графика квадратичной функци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вадратное уравнение, старший коэффициент которого равен 1 называется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619280" y="278136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1619280" y="27320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а  в  и  л  о  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1187280" y="350028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  е  п  о  л н  о  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1414800" y="4437000"/>
            <a:ext cx="24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 о  э  ф ф и  ц  и  е  н  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0" y="5180040"/>
            <a:ext cx="29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 в  а д  р  а  т  и  ч  н  а  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539640" y="402912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 в  а  д  р  а  т  н  о 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900000" y="558972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 и  к  в  а  д  р  а  т  н  о  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2268360" y="30924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  и  б  о  н а  ч  ч  и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187280" y="2732040"/>
            <a:ext cx="2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1187280" y="29178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1187280" y="3092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1187280" y="3284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1187280" y="3668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539640" y="350028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539640" y="4797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539640" y="386064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2987640" y="402912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539640" y="4221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539640" y="443700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539640" y="46054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539640" y="3668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539640" y="50133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1619280" y="3645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3"/>
          <p:cNvSpPr/>
          <p:nvPr/>
        </p:nvSpPr>
        <p:spPr>
          <a:xfrm>
            <a:off x="539640" y="53737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4"/>
          <p:cNvSpPr/>
          <p:nvPr/>
        </p:nvSpPr>
        <p:spPr>
          <a:xfrm>
            <a:off x="541800" y="558972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5"/>
          <p:cNvSpPr/>
          <p:nvPr/>
        </p:nvSpPr>
        <p:spPr>
          <a:xfrm>
            <a:off x="1619280" y="479736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6"/>
          <p:cNvSpPr/>
          <p:nvPr/>
        </p:nvSpPr>
        <p:spPr>
          <a:xfrm>
            <a:off x="3419640" y="251604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3419640" y="402912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2268360" y="3284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2989440" y="42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0"/>
          <p:cNvSpPr/>
          <p:nvPr/>
        </p:nvSpPr>
        <p:spPr>
          <a:xfrm>
            <a:off x="2987640" y="46054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1"/>
          <p:cNvSpPr/>
          <p:nvPr/>
        </p:nvSpPr>
        <p:spPr>
          <a:xfrm>
            <a:off x="2987640" y="479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2987640" y="49417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2989440" y="518004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4"/>
          <p:cNvSpPr/>
          <p:nvPr/>
        </p:nvSpPr>
        <p:spPr>
          <a:xfrm>
            <a:off x="2987640" y="5373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5"/>
          <p:cNvSpPr/>
          <p:nvPr/>
        </p:nvSpPr>
        <p:spPr>
          <a:xfrm>
            <a:off x="2987640" y="5756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6"/>
          <p:cNvSpPr/>
          <p:nvPr/>
        </p:nvSpPr>
        <p:spPr>
          <a:xfrm>
            <a:off x="2987640" y="59500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7"/>
          <p:cNvSpPr/>
          <p:nvPr/>
        </p:nvSpPr>
        <p:spPr>
          <a:xfrm>
            <a:off x="3419640" y="2205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3419640" y="23493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3419640" y="270828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3419640" y="2924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3419640" y="3284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3419640" y="3452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3419640" y="36450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3419640" y="3860640"/>
            <a:ext cx="2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4067280" y="292428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6"/>
          <p:cNvSpPr/>
          <p:nvPr/>
        </p:nvSpPr>
        <p:spPr>
          <a:xfrm>
            <a:off x="4068720" y="3284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7"/>
          <p:cNvSpPr/>
          <p:nvPr/>
        </p:nvSpPr>
        <p:spPr>
          <a:xfrm>
            <a:off x="406728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8"/>
          <p:cNvSpPr/>
          <p:nvPr/>
        </p:nvSpPr>
        <p:spPr>
          <a:xfrm>
            <a:off x="1619280" y="3860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9"/>
          <p:cNvSpPr/>
          <p:nvPr/>
        </p:nvSpPr>
        <p:spPr>
          <a:xfrm>
            <a:off x="1619280" y="429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0"/>
          <p:cNvSpPr/>
          <p:nvPr/>
        </p:nvSpPr>
        <p:spPr>
          <a:xfrm>
            <a:off x="1619280" y="460548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1"/>
          <p:cNvSpPr/>
          <p:nvPr/>
        </p:nvSpPr>
        <p:spPr>
          <a:xfrm>
            <a:off x="2268360" y="25160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2"/>
          <p:cNvSpPr/>
          <p:nvPr/>
        </p:nvSpPr>
        <p:spPr>
          <a:xfrm>
            <a:off x="2268360" y="292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3"/>
          <p:cNvSpPr/>
          <p:nvPr/>
        </p:nvSpPr>
        <p:spPr>
          <a:xfrm>
            <a:off x="2298600" y="3689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5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5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5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8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8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684360" y="40464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Вопрос класс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826920" y="90792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Решить уравнение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735120" y="169560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Решение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952560" y="2297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547640" y="2060640"/>
            <a:ext cx="41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метим, что х +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 т.е. 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332000" y="255888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ведем обе части уравнения в квадрат,  получаем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1258920" y="285264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х + 6 = х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4х + 4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547640" y="314172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ведем полученное уравнение к вид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528920" y="3495600"/>
            <a:ext cx="17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х – 2 =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161928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476360" y="3860640"/>
            <a:ext cx="563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теоремам Виета имеем, что х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 х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2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1547640" y="414972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ывая замечание, получаем х = -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755640" y="4797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                                                                  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Ответ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 = -2.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871920" y="5295960"/>
            <a:ext cx="75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Для более полного решения необходимо сделать проверку 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9" descr="FIL178"/>
          <p:cNvPicPr/>
          <p:nvPr/>
        </p:nvPicPr>
        <p:blipFill>
          <a:blip r:embed="rId1"/>
          <a:stretch/>
        </p:blipFill>
        <p:spPr>
          <a:xfrm>
            <a:off x="6948360" y="189000"/>
            <a:ext cx="1952640" cy="17622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0"/>
              <p:cNvSpPr txBox="1"/>
              <p:nvPr/>
            </p:nvSpPr>
            <p:spPr>
              <a:xfrm>
                <a:off x="3564000" y="836640"/>
                <a:ext cx="21603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4:11:19Z</dcterms:created>
  <dc:creator>Admin</dc:creator>
  <dc:description/>
  <dc:language>en-US</dc:language>
  <cp:lastModifiedBy>Пользователь</cp:lastModifiedBy>
  <dcterms:modified xsi:type="dcterms:W3CDTF">2010-06-04T09:38:25Z</dcterms:modified>
  <cp:revision>46</cp:revision>
  <dc:subject/>
  <dc:title>Слайд 1</dc:title>
</cp:coreProperties>
</file>